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830-7E4A-4040-947C-8F78FA5D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D83-C609-4D2F-9D70-4FA800EA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D87-8A12-4948-8851-C768E958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FB7-D0C1-4053-85BA-2853815C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ADD-BD37-4985-96A5-8129F430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ECB-27A0-447E-AE9D-BE36DDF7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5CA-501E-4241-87F3-B8A869C5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3EC-88F3-43F5-939E-23DE681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1D8-9174-4662-8A8E-6D112042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B61-0AEB-446D-B548-57283180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1DB-5489-4C87-A49A-9510961E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E42-CD8E-41DC-9CD3-98678489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3F59-B5C7-43C9-A12A-A7E0F8037B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916360" y="278136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5-09-06T11:33:52Z</dcterms:modified>
  <cp:revision>800</cp:revision>
  <dc:subject/>
  <dc:title>Free PPT Backgrounds</dc:title>
</cp:coreProperties>
</file>